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wmf" ContentType="image/x-wmf"/>
  <Override PartName="/ppt/media/image23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5.jpeg" ContentType="image/jpeg"/>
  <Override PartName="/ppt/media/image32.jpeg" ContentType="image/jpeg"/>
  <Override PartName="/ppt/media/image20.png" ContentType="image/png"/>
  <Override PartName="/ppt/media/image34.jpeg" ContentType="image/jpeg"/>
  <Override PartName="/ppt/media/image19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3.png" ContentType="image/png"/>
  <Override PartName="/ppt/media/image14.jpeg" ContentType="image/jpeg"/>
  <Override PartName="/ppt/media/image36.png" ContentType="image/png"/>
  <Override PartName="/ppt/media/image12.jpeg" ContentType="image/jpeg"/>
  <Override PartName="/ppt/media/image4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C5B265-9410-45D4-9F40-871DBE07EE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Header Placeholder 1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fessional Developmen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634EF5-F9BF-4222-A7FD-3289F2E0E8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D494-A5DE-4049-B974-2DCD7222B649}" type="slidenum">
              <a:rPr b="0" lang="en-GB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51F27C-297D-40F2-AACC-4364F626E8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D91E6F-A3DE-4D00-8C36-6227B4B403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25C312-23B9-4C4A-9A49-70B3884C11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2A57DA-BA19-4AA7-A600-BD48B4ADEE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CC3D98-933A-41AD-AED8-4886B4FA1E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5391D0-A20E-4D07-8ABA-EA796440FA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52C0E0-029A-472D-A06F-8CDBF3E7BB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C38159-2AFF-45CA-83FC-350C5F0A71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310AA7-88E1-4302-A53D-1026720F1D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5873CF-DAE0-45AB-BE12-08D758404D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Header Placeholder 1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fessional Developmen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56EE06-2E42-407E-A3E7-F0D0AE0C85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D69D-B67A-4A79-BB54-74520577C59D}" type="slidenum">
              <a:rPr b="0" lang="en-GB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C295D7-5128-4C0A-9DD4-0A894FDB4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891AE5-D6D4-48A7-890C-894B12862D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EC5556-1671-411F-9825-F1D06DE7E9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DD5747-5C6E-4149-8839-50D113D700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150191-E7C9-447E-8412-AE21486244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F5F937-DC83-4D78-B8A2-937915D433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79E9B5-5ED8-49CC-AB26-661408E6DE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F5346D-1819-4D27-8677-2041FCDDBF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CB0FDE-8451-4728-9F28-A3F809EAD4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FD7FFF-447B-4BA0-BC01-EB781D14EF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88E5D1-4A09-4010-BA16-B08832FCB6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5506CA-ECE8-40D7-9B38-B1AA4AFB22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B4C491-3DC9-4500-9153-D77D9C5B89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6BFB5F-9267-4228-AB9B-2CFF59CDFE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81FDA9-7B39-42BC-8D54-2537D9D31B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Header Placeholder 1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fessional Developmen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5" name="Slide Number Placeholder 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558F75-92A4-47C5-A62C-8928AD03B6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B8A2-A861-453C-BC0E-9AC2AF1F50EE}" type="slidenum">
              <a:rPr b="0" lang="en-GB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BA3AE7-E909-4B7C-BEEA-ED72B88C8A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921650-B637-42F2-B6E8-D88A071AAD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CD9995-D9C1-4FE3-B8A5-8F4B1134BE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Header Placeholder 1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fessional Developmen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12AAEC-CB36-460E-8AC3-9C2786F846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5AE-E5A9-46AC-9A2A-76366C6602D4}" type="slidenum">
              <a:rPr b="0" lang="en-GB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Header Placeholder 1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fessional Developmen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897725-FF52-405F-8729-554230EF71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011C-997F-4664-AF34-3E01A744DDE5}" type="slidenum">
              <a:rPr b="0" lang="en-GB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8AFAC8-2598-433D-A613-5569A8ECBC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9A0-612F-42F5-9DCA-2462CB7C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B9D-1B50-4E31-AFA4-4EED6381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777-802E-478D-A3A0-AA301332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C25-DA87-42D7-A218-54A3A531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560-E6A1-4D6F-9954-1F6F120A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D4B-C82E-448B-A0FC-15655B70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E9E-03DC-4ADE-9AA9-F2446BDB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06F-B343-430E-BCDE-391DD0E1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2D3-0D1A-42C7-8798-E1DECBF2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3C9-CB0E-488A-9C05-D1EAFED8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A28-8C8B-4EDE-A608-92BEC95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132-9B60-4367-B899-2C17A1D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3999-7B82-48AD-93C3-11797DD333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4797000"/>
            <a:ext cx="820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roduction to Asser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images.lifescript.com/Media/Taxonomy/Self%20Help/Personality/personality_01_article.jpg"/>
          <p:cNvPicPr/>
          <p:nvPr/>
        </p:nvPicPr>
        <p:blipFill>
          <a:blip r:embed="rId1"/>
          <a:stretch/>
        </p:blipFill>
        <p:spPr>
          <a:xfrm>
            <a:off x="2987640" y="1628640"/>
            <a:ext cx="2820960" cy="32432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gressive behaviou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ing up for your rights in a way violates the right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noring or dismissing the needs, wants, opinions, feelings or belief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ressing your own needs, wants and opinions in in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gressiv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u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p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you ever 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 I said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t on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’d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told you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nat1"/>
          <p:cNvPicPr/>
          <p:nvPr/>
        </p:nvPicPr>
        <p:blipFill>
          <a:blip r:embed="rId1"/>
          <a:stretch/>
        </p:blipFill>
        <p:spPr>
          <a:xfrm>
            <a:off x="4859280" y="2133720"/>
            <a:ext cx="3483000" cy="4179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ing to stand up for your rights or doing so in a way that others can easily disregar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ressing your needs, wants, opinions, feelings or beliefs in apologetic or self effacing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ing to express honestly your own needs, wants beliefs and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504960" cy="33274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ubmissiv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only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uld you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ould come back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it’s a bit awkward, but er….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wo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use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ry to bother 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49990895"/>
          <p:cNvPicPr/>
          <p:nvPr/>
        </p:nvPicPr>
        <p:blipFill>
          <a:blip r:embed="rId1"/>
          <a:stretch/>
        </p:blipFill>
        <p:spPr>
          <a:xfrm>
            <a:off x="5219640" y="2421000"/>
            <a:ext cx="3354480" cy="33544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ssertive behaviou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ing up for your own rights in such a way that you do not violate another person’s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ressing your needs, wants, opinions, feelings or beliefs in direct honest and 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2004_01_in1"/>
          <p:cNvPicPr/>
          <p:nvPr/>
        </p:nvPicPr>
        <p:blipFill>
          <a:blip r:embed="rId1"/>
          <a:stretch/>
        </p:blipFill>
        <p:spPr>
          <a:xfrm>
            <a:off x="5003640" y="2060640"/>
            <a:ext cx="3438720" cy="3438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ssertive word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43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would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consider th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’d like to hear your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think about.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se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an we resolv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z.about.com/d/animals/1/7/W/9/MEERKATMANOR017.jpg"/>
          <p:cNvPicPr/>
          <p:nvPr/>
        </p:nvPicPr>
        <p:blipFill>
          <a:blip r:embed="rId1"/>
          <a:srcRect l="18000" t="0" r="3997" b="-1345"/>
          <a:stretch/>
        </p:blipFill>
        <p:spPr>
          <a:xfrm>
            <a:off x="5000760" y="2286000"/>
            <a:ext cx="3714480" cy="3214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50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clear about what you feel, what you need and how it can be achie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able to communicate calmly without att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ying “yes” when you want to, and saying “no” when you mean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ing on, and sticking to, clear bound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happy to defend your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confident about handling conflict if it occ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ing how to negotiate if people want different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able to listen to 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able to give and receive positive and negative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sser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as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ve asser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athetic as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g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ant re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repancy as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ative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equence as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00_AsianWomanR1"/>
          <p:cNvPicPr/>
          <p:nvPr/>
        </p:nvPicPr>
        <p:blipFill>
          <a:blip r:embed="rId1"/>
          <a:stretch/>
        </p:blipFill>
        <p:spPr>
          <a:xfrm>
            <a:off x="5364000" y="2060640"/>
            <a:ext cx="3292560" cy="3672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andling difficult situation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utting your point of view or suggestion acro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482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basic as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ake a straightforward statement which makes clear your needs, wants, beliefs opinions or feelings or stands up for your rights by. e.g. “I need to leave by 12 noon toda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 it sim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simpleproductions.co.uk/images/logo_simple.png"/>
          <p:cNvPicPr/>
          <p:nvPr/>
        </p:nvPicPr>
        <p:blipFill>
          <a:blip r:embed="rId1"/>
          <a:stretch/>
        </p:blipFill>
        <p:spPr>
          <a:xfrm>
            <a:off x="5580000" y="2852640"/>
            <a:ext cx="2387520" cy="29862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plit dir="out" orient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(2) Getting someone to open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5111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responsive as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are aiming to find out where the other person stands, or what their needs, wants opinions and feeling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“What would you prefer to do this evening?” or “What problems does the new system create for you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ttp://www.innovationtools.com/images/questions-250px.jpg"/>
          <p:cNvPicPr/>
          <p:nvPr/>
        </p:nvPicPr>
        <p:blipFill>
          <a:blip r:embed="rId1"/>
          <a:stretch/>
        </p:blipFill>
        <p:spPr>
          <a:xfrm>
            <a:off x="5867280" y="2349360"/>
            <a:ext cx="2400480" cy="29908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day’s session -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360" y="2060280"/>
            <a:ext cx="445752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situations – ou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assertive, aggressive and submissive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assertion for different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ReadingManiacs"/>
          <p:cNvPicPr/>
          <p:nvPr/>
        </p:nvPicPr>
        <p:blipFill>
          <a:blip r:embed="rId1"/>
          <a:stretch/>
        </p:blipFill>
        <p:spPr>
          <a:xfrm>
            <a:off x="0" y="2349360"/>
            <a:ext cx="4727520" cy="35481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(3) Softening the blow / increasing the chances of being he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56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empathetic as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tatement that contains some empathy followed by a statement of your needs / w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”I can see you’re busy at the moment John but I’d just like to ask a quick ques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trcs.wikispaces.com/file/view/4c_empathy.gif/47352111/4c_empathy.gif"/>
          <p:cNvPicPr/>
          <p:nvPr/>
        </p:nvPicPr>
        <p:blipFill>
          <a:blip r:embed="rId1"/>
          <a:stretch/>
        </p:blipFill>
        <p:spPr>
          <a:xfrm>
            <a:off x="6443640" y="2781360"/>
            <a:ext cx="2554200" cy="2519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(4) Taking the heat out / slowing things d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f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way of slowing the other person down without agreeing or disagreeing with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“That’s a useful interpretation”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is certainly one way of looking at 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www.chemitron.com.ph/img/fogging.jpg"/>
          <p:cNvPicPr/>
          <p:nvPr/>
        </p:nvPicPr>
        <p:blipFill>
          <a:blip r:embed="rId1"/>
          <a:srcRect l="13989" t="4211" r="12586" b="0"/>
          <a:stretch/>
        </p:blipFill>
        <p:spPr>
          <a:xfrm>
            <a:off x="4932360" y="2565360"/>
            <a:ext cx="3780000" cy="327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(5) Making sure you are heard / dealing with being ‘cornered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70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the instant replay techniq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ay of getting your message through without nagging or whining. The message is repeated or paraphrased until it can no longer be dismissed or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“I can’t get the amendments done by 2 o’clock”…………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n’t do the amendments by 2 o’clock but I could do it by 4 o’clock”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’ve already said I can’t do the amendments by 2 o’clock”….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3.bp.blogspot.com/_Dm6YVhLedpA/SqvMrNkN1MI/AAAAAAAAAtM/hzaEBmg_b6Y/S660/replay+button.jpg"/>
          <p:cNvPicPr/>
          <p:nvPr/>
        </p:nvPicPr>
        <p:blipFill>
          <a:blip r:embed="rId1"/>
          <a:stretch/>
        </p:blipFill>
        <p:spPr>
          <a:xfrm>
            <a:off x="5940360" y="3141720"/>
            <a:ext cx="2654280" cy="115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l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(6) Dealing with people who don’t do what they pro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512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discrepancy asser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tatement that shows the other person has ‘moved the goalposts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“Mike, when we spoke last month, you said you would let me have your feedback more quickly, I’m still keen for that to happ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http://farm4.static.flickr.com/3618/3516027231_fb1ba3786e.jpg"/>
          <p:cNvPicPr/>
          <p:nvPr/>
        </p:nvPicPr>
        <p:blipFill>
          <a:blip r:embed="rId1"/>
          <a:stretch/>
        </p:blipFill>
        <p:spPr>
          <a:xfrm>
            <a:off x="5435640" y="2708280"/>
            <a:ext cx="3394080" cy="27162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l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(7) Dealing with insensitive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712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negative feelings assertion (‘I’ stat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atement which shows another person the undesirable effect their behaviour is having on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“I feel that I’m not being taken seriously / being he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eel very concerned about the impact this change will have on quality of the end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really important to avoid generalisations and ‘YOU’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“You never take me serious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’re taking no account of the impact this will have on the quality of the end resu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ttp://jamieflinchbaugh.com/wp-content/uploads/2011/01/pointing-finger.jpg"/>
          <p:cNvPicPr/>
          <p:nvPr/>
        </p:nvPicPr>
        <p:blipFill>
          <a:blip r:embed="rId1"/>
          <a:srcRect l="20954" t="5250" r="24947" b="0"/>
          <a:stretch/>
        </p:blipFill>
        <p:spPr>
          <a:xfrm>
            <a:off x="7020000" y="4221000"/>
            <a:ext cx="1985760" cy="2314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(8) Finally as a last resort .....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consequence as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atement that informs the other person of the consequences if the situation is not res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“If I can’t get the equipment I need, I’ll have no option but to delay the project by 2 weeks / escalate this to the Head of School. I’d rather we didn’t get to that stage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781440" y="2143080"/>
            <a:ext cx="15811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781440" y="2143080"/>
            <a:ext cx="15811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781440" y="2143080"/>
            <a:ext cx="15811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5" name="Picture 8" descr="http://www.tictocfamily.com/assets/0000/6637/andfinally_blog.jpg?1244196033"/>
          <p:cNvPicPr/>
          <p:nvPr/>
        </p:nvPicPr>
        <p:blipFill>
          <a:blip r:embed="rId1"/>
          <a:stretch/>
        </p:blipFill>
        <p:spPr>
          <a:xfrm>
            <a:off x="5292720" y="2492280"/>
            <a:ext cx="3463920" cy="20890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eigh it u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1905120" y="2895480"/>
            <a:ext cx="54864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657600" y="380988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9" name="Object 7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852480" cy="139860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8" descr=""/>
          <p:cNvPicPr/>
          <p:nvPr/>
        </p:nvPicPr>
        <p:blipFill>
          <a:blip r:embed="rId2"/>
          <a:stretch/>
        </p:blipFill>
        <p:spPr>
          <a:xfrm>
            <a:off x="6553080" y="2057400"/>
            <a:ext cx="873360" cy="13208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1187280" y="227664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will I gain by being assertive?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47712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will I lose by being assertive?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 advTm="12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5688000" cy="4025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826920" y="1052640"/>
            <a:ext cx="693432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fferent Perspectives (1)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eople can look at the same situation or ‘picture’ and see entirely different thing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fram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 advTm="12000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fferent Perspectiv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27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2971800" cy="39578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24000" y="380520"/>
            <a:ext cx="94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hanging our attitude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my underlying assumptio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right, you are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well-intent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are mis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are acting on a selfish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need to persuade you to do what I know i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then conflict is likely to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onfused"/>
          <p:cNvPicPr/>
          <p:nvPr/>
        </p:nvPicPr>
        <p:blipFill>
          <a:blip r:embed="rId1"/>
          <a:stretch/>
        </p:blipFill>
        <p:spPr>
          <a:xfrm>
            <a:off x="539640" y="1989000"/>
            <a:ext cx="2103480" cy="31687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do we need asser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or / inappropriate 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lity c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licting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lic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realistic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understandings /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lightworks.typepad.com/photos/uncategorized/2007/05/16/say_what_you_feel_2.jpg"/>
          <p:cNvPicPr/>
          <p:nvPr/>
        </p:nvPicPr>
        <p:blipFill>
          <a:blip r:embed="rId1"/>
          <a:stretch/>
        </p:blipFill>
        <p:spPr>
          <a:xfrm>
            <a:off x="4786200" y="2000160"/>
            <a:ext cx="3810240" cy="4564080"/>
          </a:xfrm>
          <a:prstGeom prst="rect">
            <a:avLst/>
          </a:prstGeom>
          <a:ln w="0">
            <a:noFill/>
          </a:ln>
        </p:spPr>
      </p:pic>
      <p:sp>
        <p:nvSpPr>
          <p:cNvPr id="56" name="Rectangular Callout 5"/>
          <p:cNvSpPr/>
          <p:nvPr/>
        </p:nvSpPr>
        <p:spPr>
          <a:xfrm>
            <a:off x="5715000" y="4714920"/>
            <a:ext cx="714240" cy="4698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072120" y="5214960"/>
            <a:ext cx="3571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 advTm="12000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ever - if I ‘re-frame’ the situation……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64087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 see is just one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may be miss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ay see something I’ve mi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have good intentions (we can pretend you do even if it’s hard to spo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n conflict is less likely to arise or likely to be resolved more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woman_looking_up"/>
          <p:cNvPicPr/>
          <p:nvPr/>
        </p:nvPicPr>
        <p:blipFill>
          <a:blip r:embed="rId1"/>
          <a:stretch/>
        </p:blipFill>
        <p:spPr>
          <a:xfrm>
            <a:off x="6465960" y="2349360"/>
            <a:ext cx="2355840" cy="4104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ther re-framing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64000" y="1628640"/>
            <a:ext cx="492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someone is being reall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to see the situation through their eyes..... (e.g. Are they under pressure from someone els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agine something unimaginably awful has happened to the person recently (it may not be true but it can help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Tearing your hair out? Need help?"/>
          <p:cNvPicPr/>
          <p:nvPr/>
        </p:nvPicPr>
        <p:blipFill>
          <a:blip r:embed="rId1"/>
          <a:stretch/>
        </p:blipFill>
        <p:spPr>
          <a:xfrm>
            <a:off x="571680" y="2143080"/>
            <a:ext cx="2428560" cy="38275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bigfly"/>
          <p:cNvPicPr/>
          <p:nvPr/>
        </p:nvPicPr>
        <p:blipFill>
          <a:blip r:embed="rId1"/>
          <a:stretch/>
        </p:blipFill>
        <p:spPr>
          <a:xfrm>
            <a:off x="6156360" y="1052640"/>
            <a:ext cx="2244600" cy="2104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395280" y="37497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or people who you find slightly scary!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agine them doing something very ‘normal’ like shopping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agine them as an irritating fly or a child that wants an ice-cream – they can’t really hurt you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9" name="Picture 2" descr="http://img4.realsimple.com/images/work-life/family/0707/child-icecream_300.jpg"/>
          <p:cNvPicPr/>
          <p:nvPr/>
        </p:nvPicPr>
        <p:blipFill>
          <a:blip r:embed="rId2"/>
          <a:stretch/>
        </p:blipFill>
        <p:spPr>
          <a:xfrm>
            <a:off x="3348000" y="620640"/>
            <a:ext cx="2359080" cy="280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freakingnews.com/images/adv-images/shopping.jpg"/>
          <p:cNvPicPr/>
          <p:nvPr/>
        </p:nvPicPr>
        <p:blipFill>
          <a:blip r:embed="rId3"/>
          <a:srcRect l="15491" t="10638" r="29434" b="6440"/>
          <a:stretch/>
        </p:blipFill>
        <p:spPr>
          <a:xfrm>
            <a:off x="250920" y="76500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56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a situation you want to be more assert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clear what your go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ould you normally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ould you do differen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 up pros and cons of being asse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give up at the first hur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for win/win compromis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idea"/>
          <p:cNvPicPr/>
          <p:nvPr/>
        </p:nvPicPr>
        <p:blipFill>
          <a:blip r:embed="rId1"/>
          <a:stretch/>
        </p:blipFill>
        <p:spPr>
          <a:xfrm>
            <a:off x="6229440" y="2349360"/>
            <a:ext cx="2158920" cy="30956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 summary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ke the right choice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ximise the chance of you achieving the outcome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se negative / destructive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your self respect and your respect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choices2"/>
          <p:cNvPicPr/>
          <p:nvPr/>
        </p:nvPicPr>
        <p:blipFill>
          <a:blip r:embed="rId1"/>
          <a:stretch/>
        </p:blipFill>
        <p:spPr>
          <a:xfrm>
            <a:off x="5292720" y="2421000"/>
            <a:ext cx="3733920" cy="2808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problems can unresolved conflict ca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87640" y="2133720"/>
            <a:ext cx="367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ger /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or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o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lness / insom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c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241800" cy="24638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natural response to conflict or ‘danger’ is to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ac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(flight or fight)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4.bp.blogspot.com/-qsokqfV3Ir8/TbJn2vScreI/AAAAAAAAAAg/dquSVh0-BNU/s1600/fight_or_flight_72_2.jpg"/>
          <p:cNvPicPr/>
          <p:nvPr/>
        </p:nvPicPr>
        <p:blipFill>
          <a:blip r:embed="rId1"/>
          <a:stretch/>
        </p:blipFill>
        <p:spPr>
          <a:xfrm>
            <a:off x="3780000" y="1773360"/>
            <a:ext cx="4581360" cy="3333600"/>
          </a:xfrm>
          <a:prstGeom prst="rect">
            <a:avLst/>
          </a:prstGeom>
          <a:ln w="0">
            <a:noFill/>
          </a:ln>
        </p:spPr>
      </p:pic>
      <p:sp>
        <p:nvSpPr>
          <p:cNvPr id="63" name="Title 1"/>
          <p:cNvSpPr/>
          <p:nvPr/>
        </p:nvSpPr>
        <p:spPr>
          <a:xfrm>
            <a:off x="971640" y="537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..which was fine when we lived in caves!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4" name="Picture 7" descr="http://shankman.com/wp-content/uploads/lion.jpg"/>
          <p:cNvPicPr/>
          <p:nvPr/>
        </p:nvPicPr>
        <p:blipFill>
          <a:blip r:embed="rId2"/>
          <a:stretch/>
        </p:blipFill>
        <p:spPr>
          <a:xfrm>
            <a:off x="250920" y="1773360"/>
            <a:ext cx="3529080" cy="33145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ead of this we should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the ‘best’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or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53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r cho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 yourself time / space to 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rame the situation – i.e. try to see it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different behaviour (asserti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choice"/>
          <p:cNvPicPr/>
          <p:nvPr/>
        </p:nvPicPr>
        <p:blipFill>
          <a:blip r:embed="rId1"/>
          <a:stretch/>
        </p:blipFill>
        <p:spPr>
          <a:xfrm>
            <a:off x="6012000" y="2492280"/>
            <a:ext cx="2581200" cy="36007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choice you make is critical to the 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itudes that we adopt in any situation partly determine how the situation will un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ohar &amp; Marshall (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hoices2"/>
          <p:cNvPicPr/>
          <p:nvPr/>
        </p:nvPicPr>
        <p:blipFill>
          <a:blip r:embed="rId1"/>
          <a:stretch/>
        </p:blipFill>
        <p:spPr>
          <a:xfrm>
            <a:off x="4284720" y="2133720"/>
            <a:ext cx="4595760" cy="3456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pectrum of behavi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spectrum"/>
          <p:cNvPicPr/>
          <p:nvPr/>
        </p:nvPicPr>
        <p:blipFill>
          <a:blip r:embed="rId1"/>
          <a:srcRect l="-1757" t="5230" r="0" b="0"/>
          <a:stretch/>
        </p:blipFill>
        <p:spPr>
          <a:xfrm>
            <a:off x="1116000" y="1989000"/>
            <a:ext cx="7416720" cy="4337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oup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the behaviour type your group has been asked to look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a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examples of words and body language associated with this behaviour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59:42Z</dcterms:created>
  <dc:creator/>
  <dc:description/>
  <dc:language>en-US</dc:language>
  <cp:lastModifiedBy>Bright</cp:lastModifiedBy>
  <cp:lastPrinted>2002-06-22T17:48:28Z</cp:lastPrinted>
  <dcterms:modified xsi:type="dcterms:W3CDTF">2013-08-23T10:23:06Z</dcterms:modified>
  <cp:revision>92</cp:revision>
  <dc:subject/>
  <dc:title>Lincoln College Assertive Communication</dc:title>
</cp:coreProperties>
</file>